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FD3E-D460-4671-A3F8-4277E52974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8D54-8E7D-4352-8204-779F7E3DD6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58F0-B886-4583-A663-C73354D9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CB66-83FE-4590-99FE-B6DC4B21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E79-2172-4DB8-B3D9-5EED2D65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1A8-F1D5-4D45-A4CA-859C5EBF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197C-EECB-4FA7-AD23-D0F6310D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B957-9E3C-458F-ACDB-F9645D89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0358-A4F7-4A21-89E9-BBA152D6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B41D-BA14-43DD-AB7C-E37BE0C2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172D-240D-4950-86E4-88D2004D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BBCE-AC5A-4ADC-9E57-DE8567B5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E9FB-8C8B-4660-B3A5-E8F688E7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B12-5231-4263-A9E7-E2630899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1348-7FAF-46C2-8E6B-6D024008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8DE5-3C4B-47FC-9A65-02591E6A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304D-D426-4E19-BFDB-D296548D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EE77-B27F-4DD0-8D05-7E77D87D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309D-52C6-4A31-9E1C-C605BD6D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F6BF7-514E-49F7-B3F0-AE51C22B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03583-0878-49BA-AA0A-61C089E8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40A18-D414-4069-B645-8124B477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F611B-7710-44C7-B852-F2AA71C0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6330E-239C-47ED-9F07-694686EF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E36-AF87-456F-A7D2-F9B75445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ADAFC-EA6B-4CED-8C41-BEFC42B6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09B80-27B6-4720-B1C1-8E8A1DB3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EDBD0-D74B-4C3E-9689-D8BADAB8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31A5D-F2F7-4C26-BBCB-4EDBA1CF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ED818-D54F-467E-85AF-18AD1B22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BB8C4-E4B9-44A9-9C37-0B8BCB09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51D50-163E-4F9B-9000-591EC3A3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C4FE8-FC3E-4BC1-83CD-7723A4B8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557C3-B9E5-4E41-A8CD-B6E38683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3E418-02B2-4B54-9F4C-145703C4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0A9-784A-454F-9660-CE6CB061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257A4-6E8B-4A6F-8953-6654ECA9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7060C-D0C2-4960-A701-DCC26192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E1C46-1C5E-4011-9FAE-6FBDB1E4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6B8D5-F666-49DB-A31C-AF8F153E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E3FE6-E467-4A98-9E61-3A5D9253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FB525-9C33-49C2-A3FD-1E67D1EA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BACDE-73C9-4F5D-A6BF-0A97337E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D982C-F1C7-425A-8281-989C0A38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1C2C2-9D18-45D9-929B-EC9D273C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31B33-125C-4864-BBE6-677C557E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A021-A846-40AB-8B1F-4E1347B7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199DF-5BAE-4DA5-A6F4-D8ED7D48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33051-3C74-4FAC-97D4-D27BE99E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FBB8F-0DE2-4494-8FBC-2EAD4E7F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9EDED-52D0-4FA4-BA82-DD31254B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192B5-F436-4D91-B453-8F95219E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AFBD2-C5D6-43A9-AC52-FC368409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953A5-0B21-4D0C-A14F-29253EC4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62F51-D6CA-4753-8AAF-E0E12D67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2C287-2A4B-4F4F-BD24-1203A3B3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A734F-F6D3-430E-A588-B5C164FD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D881-DA41-4D64-8719-3E8A2A23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D2DF9-901D-43D0-81A6-CCA95C67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9481-2660-4237-960D-CA95660F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052-D9BD-41ED-B014-0F859D35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F18F-C147-44A6-87CB-7BA9D9F0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AEB3-AC35-4E0F-B554-E53E592757F9}" type="slidenum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4543-A2F5-4A61-AA46-BD78ACDDF61C}" type="slidenum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eaf2"/>
            </a:gs>
          </a:gsLst>
          <a:lin ang="504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7"/>
          <p:cNvGrpSpPr/>
          <p:nvPr/>
        </p:nvGrpSpPr>
        <p:grpSpPr>
          <a:xfrm>
            <a:off x="-14400" y="0"/>
            <a:ext cx="12053880" cy="6858000"/>
            <a:chOff x="-14400" y="0"/>
            <a:chExt cx="12053880" cy="6858000"/>
          </a:xfrm>
        </p:grpSpPr>
        <p:pic>
          <p:nvPicPr>
            <p:cNvPr id="84" name="Group 8" descr=""/>
            <p:cNvPicPr/>
            <p:nvPr/>
          </p:nvPicPr>
          <p:blipFill>
            <a:blip r:embed="rId3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Group 9" descr=""/>
            <p:cNvPicPr/>
            <p:nvPr/>
          </p:nvPicPr>
          <p:blipFill>
            <a:blip r:embed="rId4"/>
            <a:stretch/>
          </p:blipFill>
          <p:spPr>
            <a:xfrm>
              <a:off x="113688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E80C-5174-4342-AC1E-86108318B5F0}" type="slidenum">
              <a:rPr b="0" lang="ru-RU" sz="1000" spc="-1" strike="noStrike">
                <a:solidFill>
                  <a:srgbClr val="898989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eaf2"/>
            </a:gs>
          </a:gsLst>
          <a:lin ang="504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Group 10" descr=""/>
          <p:cNvPicPr/>
          <p:nvPr/>
        </p:nvPicPr>
        <p:blipFill>
          <a:blip r:embed="rId3"/>
          <a:stretch/>
        </p:blipFill>
        <p:spPr>
          <a:xfrm>
            <a:off x="0" y="0"/>
            <a:ext cx="22986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7077240" y="54097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1875960" y="5409720"/>
            <a:ext cx="512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9896040" y="540972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BC2D-5E55-4A36-9C5F-AB531A00A50D}" type="slidenum">
              <a:rPr b="0" lang="ru-RU" sz="1000" spc="-1" strike="noStrike">
                <a:solidFill>
                  <a:srgbClr val="898989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eaf2"/>
            </a:gs>
          </a:gsLst>
          <a:lin ang="504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7"/>
          <p:cNvGrpSpPr/>
          <p:nvPr/>
        </p:nvGrpSpPr>
        <p:grpSpPr>
          <a:xfrm>
            <a:off x="-14400" y="0"/>
            <a:ext cx="12053880" cy="6858000"/>
            <a:chOff x="-14400" y="0"/>
            <a:chExt cx="12053880" cy="6858000"/>
          </a:xfrm>
        </p:grpSpPr>
        <p:pic>
          <p:nvPicPr>
            <p:cNvPr id="172" name="Group 8" descr=""/>
            <p:cNvPicPr/>
            <p:nvPr/>
          </p:nvPicPr>
          <p:blipFill>
            <a:blip r:embed="rId3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Group 9" descr=""/>
            <p:cNvPicPr/>
            <p:nvPr/>
          </p:nvPicPr>
          <p:blipFill>
            <a:blip r:embed="rId4"/>
            <a:stretch/>
          </p:blipFill>
          <p:spPr>
            <a:xfrm>
              <a:off x="113688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TextBox 47"/>
          <p:cNvSpPr/>
          <p:nvPr/>
        </p:nvSpPr>
        <p:spPr>
          <a:xfrm>
            <a:off x="903240" y="73188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  <a:ea typeface="Trebuchet MS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48"/>
          <p:cNvSpPr/>
          <p:nvPr/>
        </p:nvSpPr>
        <p:spPr>
          <a:xfrm>
            <a:off x="10537920" y="27655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  <a:ea typeface="Trebuchet MS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D2E6-74F5-4D03-AD13-96C993570A4E}" type="slidenum">
              <a:rPr b="0" lang="ru-RU" sz="1000" spc="-1" strike="noStrike">
                <a:solidFill>
                  <a:srgbClr val="898989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14120" y="2217240"/>
            <a:ext cx="879156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Arial"/>
                <a:ea typeface="Arial"/>
              </a:rPr>
              <a:t>НЕЛЛЯ ГРИГОРІВНА НИЧКАЛО –</a:t>
            </a:r>
            <a:br>
              <a:rPr sz="4000"/>
            </a:br>
            <a:r>
              <a:rPr b="0" lang="uk-UA" sz="40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r>
              <a:rPr b="1" lang="uk-UA" sz="4000" spc="-1" strike="noStrike">
                <a:solidFill>
                  <a:srgbClr val="002060"/>
                </a:solidFill>
                <a:latin typeface="Arial"/>
                <a:ea typeface="Arial"/>
              </a:rPr>
              <a:t>ПРОВІДНИЙ ВЧЕНИЙ У ГАЛУЗІ ПРОФЕСІЙНОЇ ПЕДАГОГІКИ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Tw Cen MT"/>
              </a:rPr>
              <a:t> </a:t>
            </a:r>
            <a:endParaRPr b="0" lang="en-US" sz="4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(до 75-річчя від дня </a:t>
            </a:r>
            <a:r>
              <a:rPr b="1" i="1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народження доктора педагогічних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аук, </a:t>
            </a:r>
            <a:r>
              <a:rPr b="1" i="1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професора, члена П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езидії НАПН України, заслуж</a:t>
            </a:r>
            <a:r>
              <a:rPr b="1" i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e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ого діяча науки і </a:t>
            </a:r>
            <a:r>
              <a:rPr b="1" i="1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техніки України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, академіка-секретаря Відділення </a:t>
            </a:r>
            <a:r>
              <a:rPr b="1" i="1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професійної освіти й освіти дорослих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АПН України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6" name="Picture 2" descr=" "/>
          <p:cNvPicPr/>
          <p:nvPr/>
        </p:nvPicPr>
        <p:blipFill>
          <a:blip r:embed="rId1"/>
          <a:stretch/>
        </p:blipFill>
        <p:spPr>
          <a:xfrm>
            <a:off x="4268880" y="2149560"/>
            <a:ext cx="310356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Объект 2"/>
          <p:cNvSpPr/>
          <p:nvPr/>
        </p:nvSpPr>
        <p:spPr>
          <a:xfrm>
            <a:off x="1114560" y="590400"/>
            <a:ext cx="103629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1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2060"/>
                </a:solidFill>
                <a:latin typeface="Arial"/>
                <a:ea typeface="Arial"/>
              </a:rPr>
              <a:t>Неля Григорівна Ничкало - особистість непересічна, неповторна. Вона автор багатьох книг і статей, керівник багатьох кандидатських і консультант докторських дисертацій. Учні для Неллі Григорівни - найкращі, найулюбленіші, найпотрібніші люди в житті. Навколо неї завжди панує дух добра, людяності, гуманності. Її шанують колеги за рубежем. Її ідеї запалюють інших. Найпрекрасніша, найгуманніша особистість, вона в усьому вбачає своє призначення на цій землі. Вона може бути прикладом і в сімейному житті. ...вона вміє бути щасливою сама й генерує щастя для інши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4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4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5272"/>
                </a:solidFill>
                <a:latin typeface="Times New Roman"/>
                <a:ea typeface="Times New Roman"/>
              </a:rPr>
              <a:t>А. М. Богу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4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6"/>
          <p:cNvSpPr/>
          <p:nvPr/>
        </p:nvSpPr>
        <p:spPr>
          <a:xfrm>
            <a:off x="676440" y="2863800"/>
            <a:ext cx="10801080" cy="2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9110d"/>
                </a:solidFill>
                <a:latin typeface="Times New Roman"/>
                <a:ea typeface="Times New Roman"/>
              </a:rPr>
              <a:t>Основні дати життя і діяльності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39</a:t>
            </a:r>
            <a:r>
              <a:rPr b="0" i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родилася 26 вересня в с. Старогнатівка Волноваського району Донецької област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54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вчалася у Маріупольському педагогічному училищі Донецької област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58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закінчила Лисичанське педагогічне училище м. Верхнє Луганської област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65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закінчила Львівський державний університет імені І. Франка, філологічний факульт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65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читель Порудянської і Лісівської шкіл Яворівського району Львівської області, другий секретар Львівського обкому комсомолу Компартії Украї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70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ступник завідувача відділу науки і навчальних закладів Львівського обкому Компартії Украї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72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хистила дисертацію на здобуття наукового ступеня кандидата педагогічних нау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76</a:t>
            </a:r>
            <a:r>
              <a:rPr b="0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ацівник апарату Президії Верховної Ради Української РС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81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відувачка відділу професійно-технічної освіти Науково-дослідного інституту педагогіки Міністерства народної освіти УРС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169640" y="1275840"/>
            <a:ext cx="990612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85 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истила дисертацію на здобуття наукового ступеня доктора педагогічних наук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87 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воєно вчене звання професор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93 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тупник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а з наукової роботи Інституту педагогіки і психології професійної освіти АПН України; обрана членом-кореспондентом АПН України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95 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на дійсним членом АПН України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97 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на академіком-секретарем Відділення педагогіки і психології професійно-технічної освіти АПН України, заступник директора з наукової роботи Інституту педагогіки і психології професійної освіти АПН України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08 –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воєно званн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ЕСНИЙ ДОКТОР» – «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OR HONORIS CAUSA»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мельницького національного університету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08  –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на академіком-секретарем Відділення професійної освіти і освіти дорослих АПН України, перший заступник директора Інституту педагогічної освіти і освіти дорослих АПН України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09  –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воєно званн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ЕСНИЙ ДОКТОР» – «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OR HONORIS CAUSA»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іверситету менеджменту освіт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Н України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09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воєно званн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ЕСНИЙ ДОКТОР» – «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OR HONORIS CAUSA»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івського державного університету безпеки життєдіяльності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9T17:34:52Z</dcterms:created>
  <dc:creator>V</dc:creator>
  <dc:description/>
  <dc:language>en-US</dc:language>
  <cp:lastModifiedBy>PK</cp:lastModifiedBy>
  <dcterms:modified xsi:type="dcterms:W3CDTF">2018-02-26T08:53:04Z</dcterms:modified>
  <cp:revision>34</cp:revision>
  <dc:subject/>
  <dc:title>Нелля Григорівна Ничкало –  провідний вчений у галузі професійної педагогіки</dc:title>
</cp:coreProperties>
</file>