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9A7A-FE1F-40A1-BB78-8C2C4CC81F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0300-2817-4F69-87E3-3B887349DC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1B9-5B15-42A1-9F0B-AE406000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1AA-887E-41EC-9A94-6928F5CB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5B1-9E8D-4319-ABDC-98F0C220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7EF-D363-4281-8090-EE692D61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F361-39D6-412C-89EA-4C4AB042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1804-A39E-418C-8D2C-9E06F431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E07-20C4-4FA5-B7A8-31A44F70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4B94-29BF-4DB4-8633-CB09AAFA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4471-87CA-45C4-800C-3B8E73F4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84A3-53CB-4C8B-9854-695791EF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46FB-214F-41C0-BF38-9C8FDC4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7D6-76FF-43B7-8879-417B950A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CD19-EA72-4E15-B728-BDE5FC9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D7BA-2777-44F7-A49B-5B28845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BA6E-BBEF-436F-890A-A68F7A8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26D5-4B1F-4D8E-A739-53B25333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66A7-0815-4205-AB61-B7A75D06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BA83-F297-4C2E-B649-6DC755F6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E5AF-17EB-441C-9016-F6B29F01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791B-688F-46EB-AFE6-3EC3602F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8E42-1A8B-4C44-B7A6-AD101DEC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A533-440D-400D-A5BE-50D07BFA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016-C295-4642-945B-728B962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0150-94E7-4CD9-BD29-72677F58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6EBA-F2E8-469B-8233-6C00E24C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01861-8158-42A9-88D4-EAD07EC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C7D9-0495-43C4-9B98-13C2B36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BE1B-AD30-4527-894C-72857966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EB1F-D28A-4926-A3AF-5FE3E49A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CF28-1ACD-464B-BA48-5DADCE1B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BA38-5DAC-455A-ACF4-41315089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0ABF-5E45-460D-973F-2519A559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4512-FB8F-496D-BF52-28A3625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C67-975A-46ED-AD46-04DC3A5F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8C25-1FE9-47F3-823E-7A6E5F98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CC1E-0482-4D8B-81E9-D9DF7BAB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723B-3784-49EA-844D-D26778DF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11F2-6EE2-48AA-A53E-61D5F83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3CF3E-4CB0-4485-BF00-D3425B4F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1A44-6C5A-40DD-9050-C87684A2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A9AB-3773-450F-8BBC-3CF59F43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87C1-05A4-4279-BADE-C82603D9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715E-7697-4080-A4D3-E4011C5D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BC5D-FB45-4188-821C-053AFB82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E2E-9E3F-4D3D-BF58-A30538FC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883F3-1810-4067-A5AA-F5CAB0BF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949BD-200B-4BBB-A51D-1FA5CA01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39D0-3E63-4043-AEBE-47E69E00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11D24-A453-4E1B-AD76-717F5DC5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6A254-4F74-43A2-B09B-875D868F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4D74-005C-4F7B-958E-5740180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F3529-F82E-457E-9CF6-39885A2E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7FC8A-BFF3-4391-BAA0-0EBF6213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0610-0802-4900-A480-7EDE8051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EB63-2B26-419F-B75B-E2031EDC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C22-3146-4F8D-A79C-B66F19B0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F8448-78DC-4006-A276-16D56E4F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3B5-6880-400C-97AC-CBA90631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9E7-6CB2-46AD-8D60-23001FD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40B-70CC-4266-A846-AD4609B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75BC-29B4-4C74-9E45-949A75F9EC6C}" type="slidenum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6A9E-354D-4946-BA09-700DA307B4D0}" type="slidenum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af2"/>
            </a:gs>
          </a:gsLst>
          <a:lin ang="50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84" name="Group 8" descr=""/>
            <p:cNvPicPr/>
            <p:nvPr/>
          </p:nvPicPr>
          <p:blipFill>
            <a:blip r:embed="rId3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Group 9" descr=""/>
            <p:cNvPicPr/>
            <p:nvPr/>
          </p:nvPicPr>
          <p:blipFill>
            <a:blip r:embed="rId4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FF12-948D-4237-B3A1-795936B9F12C}" type="slidenum">
              <a:rPr b="0" lang="ru-RU" sz="10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af2"/>
            </a:gs>
          </a:gsLst>
          <a:lin ang="50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Group 10" descr=""/>
          <p:cNvPicPr/>
          <p:nvPr/>
        </p:nvPicPr>
        <p:blipFill>
          <a:blip r:embed="rId3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4ABA-1B73-48B8-B0F7-65EAE420D762}" type="slidenum">
              <a:rPr b="0" lang="ru-RU" sz="10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af2"/>
            </a:gs>
          </a:gsLst>
          <a:lin ang="50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172" name="Group 8" descr=""/>
            <p:cNvPicPr/>
            <p:nvPr/>
          </p:nvPicPr>
          <p:blipFill>
            <a:blip r:embed="rId3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Group 9" descr=""/>
            <p:cNvPicPr/>
            <p:nvPr/>
          </p:nvPicPr>
          <p:blipFill>
            <a:blip r:embed="rId4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6C70-30C9-43F9-AE3F-CA05361E19DA}" type="slidenum">
              <a:rPr b="0" lang="ru-RU" sz="10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120" y="2217240"/>
            <a:ext cx="879156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НЕЛЛЯ ГРИГОРІВНА НИЧКАЛО –</a:t>
            </a:r>
            <a:br>
              <a:rPr sz="4000"/>
            </a:br>
            <a:r>
              <a:rPr b="0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ПРОВІДНИЙ ВЧЕНИЙ У ГАЛУЗІ ПРОФЕСІЙНОЇ ПЕДАГОГІКИ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(до 75-річчя від дня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народження доктора педагогічних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ук,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професора, члена П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езидії НАПН України, заслуж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e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ого діяча науки і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техніки України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академіка-секретаря Відділення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професійної освіти й освіти дорослих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ПН України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6" name="Picture 2" descr=" "/>
          <p:cNvPicPr/>
          <p:nvPr/>
        </p:nvPicPr>
        <p:blipFill>
          <a:blip r:embed="rId1"/>
          <a:stretch/>
        </p:blipFill>
        <p:spPr>
          <a:xfrm>
            <a:off x="4268880" y="2149560"/>
            <a:ext cx="3103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Объект 2"/>
          <p:cNvSpPr/>
          <p:nvPr/>
        </p:nvSpPr>
        <p:spPr>
          <a:xfrm>
            <a:off x="1114560" y="590400"/>
            <a:ext cx="103629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2060"/>
                </a:solidFill>
                <a:latin typeface="Arial"/>
                <a:ea typeface="Arial"/>
              </a:rPr>
              <a:t>Неля Григорівна Ничкало - особистість непересічна, неповторна. Вона автор багатьох книг і статей, керівник багатьох кандидатських і консультант докторських дисертацій. Учні для Неллі Григорівни - найкращі, найулюбленіші, найпотрібніші люди в житті. Навколо неї завжди панує дух добра, людяності, гуманності. Її шанують колеги за рубежем. Її ідеї запалюють інших. Найпрекрасніша, найгуманніша особистість, вона в усьому вбачає своє призначення на цій землі. Вона може бути прикладом і в сімейному житті. ...вона вміє бути щасливою сама й генерує щастя для інш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5272"/>
                </a:solidFill>
                <a:latin typeface="Times New Roman"/>
                <a:ea typeface="Times New Roman"/>
              </a:rPr>
              <a:t>А. М. Богу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676440" y="2863800"/>
            <a:ext cx="1080108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9110d"/>
                </a:solidFill>
                <a:latin typeface="Times New Roman"/>
                <a:ea typeface="Times New Roman"/>
              </a:rPr>
              <a:t>Основні дати життя і діяльності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39</a:t>
            </a:r>
            <a:r>
              <a:rPr b="0" i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родилася 26 вересня в с. Старогнатівка Волноваського району Донецької обла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54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вчалася у Маріупольському педагогічному училищі Донецької обла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58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закінчила Лисичанське педагогічне училище м. Верхнє Луганської обла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65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закінчила Львівський державний університет імені І. Франка, філологічний факульт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65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итель Порудянської і Лісівської шкіл Яворівського району Львівської області, другий секретар Львівського обкому комсомолу Компартії Украї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70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ступник завідувача відділу науки і навчальних закладів Львівського обкому Компартії Украї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72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хистила дисертацію на здобуття наукового ступеня кандидата педагогічних нау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76</a:t>
            </a:r>
            <a:r>
              <a:rPr b="0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цівник апарату Президії Верховної Ради Української РС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8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відувачка відділу професійно-технічної освіти Науково-дослідного інституту педагогіки Міністерства народної освіти УРС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69640" y="1275840"/>
            <a:ext cx="990612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85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истила дисертацію на здобуття наукового ступеня доктора педагогічних нау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87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вчене звання професор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3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упник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а з наукової роботи Інституту педагогіки і психології професійної освіти АПН України; обрана членом-кореспондентом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5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на дійсним членом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7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на академіком-секретарем Відділення педагогіки і психології професійно-технічної освіти АПН України, заступник директора з наукової роботи Інституту педагогіки і психології професійної освіти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8 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званн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СНИЙ ДОКТОР» –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 HONORIS CAUSA»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ельницького національного університету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8 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на академіком-секретарем Відділення професійної освіти і освіти дорослих АПН України, перший заступник директора Інституту педагогічної освіти і освіти дорослих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9 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званн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СНИЙ ДОКТОР» –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 HONORIS CAUSA»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верситету менеджменту освіт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9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званн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СНИЙ ДОКТОР» –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 HONORIS CAUSA»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ого державного університету безпеки життєдіяльності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9T17:34:52Z</dcterms:created>
  <dc:creator>V</dc:creator>
  <dc:description/>
  <dc:language>en-US</dc:language>
  <cp:lastModifiedBy>PK</cp:lastModifiedBy>
  <dcterms:modified xsi:type="dcterms:W3CDTF">2018-02-26T08:53:04Z</dcterms:modified>
  <cp:revision>34</cp:revision>
  <dc:subject/>
  <dc:title>Нелля Григорівна Ничкало –  провідний вчений у галузі професійної педагогіки</dc:title>
</cp:coreProperties>
</file>