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C0E4-F680-4FBD-A966-C4D8305B2E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F2CF-6F02-4894-BCCF-C9BDCEA85B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2FDA-F989-4F6C-85CC-A442FE5A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77FF-2BC8-4D1B-AE16-B53202C2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D7F1-1C2E-42D9-BF2D-0DC42936F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9064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3972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156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9064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3972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2B1E-E305-493A-AB6C-649081770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6999-7A87-4106-BCDF-F4B9E80A1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0EF0-2E28-44AD-9D08-72508E1E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5FDD-E35C-47CC-AAAE-B2838996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F983-58F2-4A80-8EAD-2260E7B7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D231-7353-4CD9-969A-BCDDF811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1560" y="618840"/>
            <a:ext cx="990576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2866-EA0D-4C23-AC90-15D2AC66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3ED0-390E-4A0E-8F66-FA8B0ADF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5554-AD04-4516-AE24-F414813C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7C41-5A60-4C2D-ADBD-17C1D5C2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69B3-82C6-413D-81A2-4ADEBAF5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1CCC-E665-4BC5-A489-CC56E765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98F1-8F30-41AC-8B22-E6101090C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9064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83972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156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9064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83972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0157-2D3A-4F3A-A549-19B842CB9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D7527-2445-4415-B7E4-B98E4500E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4A13D-65DC-479E-839A-7DE6E71D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56C8D-88CE-4453-B5C2-80421C04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E08FE-1B7D-4CC8-8858-CDC2AF47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1AE4F-9FA5-4A27-AC5B-FFEDE53F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D66E-396A-4529-A4F4-31C48F31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41560" y="618840"/>
            <a:ext cx="990576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08106-F013-421A-A432-D1B9055A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22E6A-0921-4ED1-977C-AC890BBA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51948-8FDC-4D11-9B74-30FCA899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AD134-8D25-4629-9A61-7D6F3559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2E5CA-CEAB-48F1-BDF1-BC1C409B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6CE92-7412-4FF1-B9D0-D17ED7522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49064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83972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4156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49064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783972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91CCE-C395-46F4-A788-3678CFB32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97FAE-CFBD-4DBC-B5F7-BEA4548AB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30007-823B-4449-A5BD-761984A2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5C584-BA74-4494-A1E2-4CB2CB37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5C26-EE16-4383-9FBF-72F0D573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A5221-0D63-4094-82EC-1D36276D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F8E63-9D8C-4D1D-8D8B-4EBE4AB4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141560" y="618840"/>
            <a:ext cx="990576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B5CAD-894B-486F-8294-2AB86E1B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E8B87-2938-476E-AB9A-67251E99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C8032-EE21-4178-9173-0A349BC3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87AA4-E5CB-4037-A83D-E3DAEA7A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1C9FB-4C66-4E00-818B-99AA1E60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8FB6B-34E7-46EA-94B2-E9EC51A2A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49064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83972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114156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449064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783972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BBD1D-57DA-482E-88BA-2DF08B48D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3109F-1D1A-4253-B12B-BD680B4F5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2EA2-AB73-45EA-B211-AFED3EF0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FF898-A5E1-410D-A1C2-F25AA1A5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1EB81-0020-4263-AB8C-6E6CB4EE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0E445-EB8A-46C0-A0F1-22FB31A4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1B662-8F03-45A4-9C74-1214D37C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141560" y="618840"/>
            <a:ext cx="990576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A6644-1190-4454-B93A-46449E77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FB7F2-0DD3-4F56-AE8E-CA54C37E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65A52-ACC4-4378-8F4B-5FEDFD2C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E26CD-D8F2-49B0-BCBF-D78EEBA9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7AA42-57CF-4F0E-95BD-92ADD37C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B7E4C-3961-4406-BB4D-6177A0970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1560" y="618840"/>
            <a:ext cx="990576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FB3E-F6B5-48B8-9185-B1CE279B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49064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783972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14156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49064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783972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61BBE-0467-480F-B753-E58219C24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25BA-56E3-41D9-8EC0-C153AF7D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688D-0AF5-4E42-BCAF-72622DB2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0422-5D9F-4700-A8E2-98DD7E9A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6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91C0-8143-4DE1-A4F0-5614B9570BF3}" type="slidenum">
              <a:rPr b="0" lang="ru-RU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6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751D-205D-4225-9CBA-FD75E090C7BE}" type="slidenum">
              <a:rPr b="0" lang="ru-RU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eaf2"/>
            </a:gs>
          </a:gsLst>
          <a:lin ang="504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7"/>
          <p:cNvGrpSpPr/>
          <p:nvPr/>
        </p:nvGrpSpPr>
        <p:grpSpPr>
          <a:xfrm>
            <a:off x="-14400" y="0"/>
            <a:ext cx="12053880" cy="6858000"/>
            <a:chOff x="-14400" y="0"/>
            <a:chExt cx="12053880" cy="6858000"/>
          </a:xfrm>
        </p:grpSpPr>
        <p:pic>
          <p:nvPicPr>
            <p:cNvPr id="84" name="Group 8" descr=""/>
            <p:cNvPicPr/>
            <p:nvPr/>
          </p:nvPicPr>
          <p:blipFill>
            <a:blip r:embed="rId3"/>
            <a:stretch/>
          </p:blipFill>
          <p:spPr>
            <a:xfrm>
              <a:off x="-14400" y="0"/>
              <a:ext cx="12132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Group 9" descr=""/>
            <p:cNvPicPr/>
            <p:nvPr/>
          </p:nvPicPr>
          <p:blipFill>
            <a:blip r:embed="rId4"/>
            <a:stretch/>
          </p:blipFill>
          <p:spPr>
            <a:xfrm>
              <a:off x="11368800" y="0"/>
              <a:ext cx="670680" cy="68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745632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1141560" y="5882760"/>
            <a:ext cx="623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10275480" y="5882760"/>
            <a:ext cx="771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4C1F-3CFB-4283-B829-7DDA721AF998}" type="slidenum">
              <a:rPr b="0" lang="ru-RU" sz="1000" spc="-1" strike="noStrike">
                <a:solidFill>
                  <a:srgbClr val="898989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eaf2"/>
            </a:gs>
          </a:gsLst>
          <a:lin ang="504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Group 10" descr=""/>
          <p:cNvPicPr/>
          <p:nvPr/>
        </p:nvPicPr>
        <p:blipFill>
          <a:blip r:embed="rId3"/>
          <a:stretch/>
        </p:blipFill>
        <p:spPr>
          <a:xfrm>
            <a:off x="0" y="0"/>
            <a:ext cx="22986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7077240" y="540972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1875960" y="5409720"/>
            <a:ext cx="512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9896040" y="5409720"/>
            <a:ext cx="771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68D4-AE61-4ACC-A964-20A0509B9065}" type="slidenum">
              <a:rPr b="0" lang="ru-RU" sz="1000" spc="-1" strike="noStrike">
                <a:solidFill>
                  <a:srgbClr val="898989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eaf2"/>
            </a:gs>
          </a:gsLst>
          <a:lin ang="504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7"/>
          <p:cNvGrpSpPr/>
          <p:nvPr/>
        </p:nvGrpSpPr>
        <p:grpSpPr>
          <a:xfrm>
            <a:off x="-14400" y="0"/>
            <a:ext cx="12053880" cy="6858000"/>
            <a:chOff x="-14400" y="0"/>
            <a:chExt cx="12053880" cy="6858000"/>
          </a:xfrm>
        </p:grpSpPr>
        <p:pic>
          <p:nvPicPr>
            <p:cNvPr id="172" name="Group 8" descr=""/>
            <p:cNvPicPr/>
            <p:nvPr/>
          </p:nvPicPr>
          <p:blipFill>
            <a:blip r:embed="rId3"/>
            <a:stretch/>
          </p:blipFill>
          <p:spPr>
            <a:xfrm>
              <a:off x="-14400" y="0"/>
              <a:ext cx="12132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Group 9" descr=""/>
            <p:cNvPicPr/>
            <p:nvPr/>
          </p:nvPicPr>
          <p:blipFill>
            <a:blip r:embed="rId4"/>
            <a:stretch/>
          </p:blipFill>
          <p:spPr>
            <a:xfrm>
              <a:off x="11368800" y="0"/>
              <a:ext cx="670680" cy="68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TextBox 47"/>
          <p:cNvSpPr/>
          <p:nvPr/>
        </p:nvSpPr>
        <p:spPr>
          <a:xfrm>
            <a:off x="903240" y="73188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  <a:ea typeface="Trebuchet MS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48"/>
          <p:cNvSpPr/>
          <p:nvPr/>
        </p:nvSpPr>
        <p:spPr>
          <a:xfrm>
            <a:off x="10537920" y="27655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  <a:ea typeface="Trebuchet MS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745632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1141560" y="5882760"/>
            <a:ext cx="623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10275480" y="5882760"/>
            <a:ext cx="771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FAE8-397A-4B7B-9114-97EC75C527C1}" type="slidenum">
              <a:rPr b="0" lang="ru-RU" sz="1000" spc="-1" strike="noStrike">
                <a:solidFill>
                  <a:srgbClr val="898989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14120" y="2217240"/>
            <a:ext cx="879156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Arial"/>
                <a:ea typeface="Arial"/>
              </a:rPr>
              <a:t>НЕЛЛЯ ГРИГОРІВНА НИЧКАЛО –</a:t>
            </a:r>
            <a:br>
              <a:rPr sz="4000"/>
            </a:br>
            <a:r>
              <a:rPr b="0" lang="uk-UA" sz="4000" spc="-1" strike="noStrike">
                <a:solidFill>
                  <a:srgbClr val="002060"/>
                </a:solidFill>
                <a:latin typeface="Arial"/>
                <a:ea typeface="Arial"/>
              </a:rPr>
              <a:t> </a:t>
            </a:r>
            <a:r>
              <a:rPr b="1" lang="uk-UA" sz="4000" spc="-1" strike="noStrike">
                <a:solidFill>
                  <a:srgbClr val="002060"/>
                </a:solidFill>
                <a:latin typeface="Arial"/>
                <a:ea typeface="Arial"/>
              </a:rPr>
              <a:t>ПРОВІДНИЙ ВЧЕНИЙ У ГАЛУЗІ ПРОФЕСІЙНОЇ ПЕДАГОГІКИ</a:t>
            </a:r>
            <a:br>
              <a:rPr sz="4300"/>
            </a:br>
            <a:r>
              <a:rPr b="0" lang="ru-RU" sz="4300" spc="-1" strike="noStrike">
                <a:solidFill>
                  <a:srgbClr val="000000"/>
                </a:solidFill>
                <a:latin typeface="Tw Cen MT"/>
              </a:rPr>
              <a:t> </a:t>
            </a:r>
            <a:endParaRPr b="0" lang="en-US" sz="4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3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(до 75-річчя від дня </a:t>
            </a:r>
            <a:r>
              <a:rPr b="1" i="1" lang="uk-UA" sz="1800" spc="-1" strike="noStrike">
                <a:solidFill>
                  <a:srgbClr val="002060"/>
                </a:solidFill>
                <a:latin typeface="Arial"/>
                <a:ea typeface="Arial"/>
              </a:rPr>
              <a:t>народження доктора педагогічних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наук, </a:t>
            </a:r>
            <a:r>
              <a:rPr b="1" i="1" lang="uk-UA" sz="1800" spc="-1" strike="noStrike">
                <a:solidFill>
                  <a:srgbClr val="002060"/>
                </a:solidFill>
                <a:latin typeface="Arial"/>
                <a:ea typeface="Arial"/>
              </a:rPr>
              <a:t>професора, члена П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резидії НАПН України, заслуж</a:t>
            </a:r>
            <a:r>
              <a:rPr b="1" i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e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ного діяча науки і </a:t>
            </a:r>
            <a:r>
              <a:rPr b="1" i="1" lang="uk-UA" sz="1800" spc="-1" strike="noStrike">
                <a:solidFill>
                  <a:srgbClr val="002060"/>
                </a:solidFill>
                <a:latin typeface="Arial"/>
                <a:ea typeface="Arial"/>
              </a:rPr>
              <a:t>техніки України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, академіка-секретаря Відділення </a:t>
            </a:r>
            <a:r>
              <a:rPr b="1" i="1" lang="uk-UA" sz="1800" spc="-1" strike="noStrike">
                <a:solidFill>
                  <a:srgbClr val="002060"/>
                </a:solidFill>
                <a:latin typeface="Arial"/>
                <a:ea typeface="Arial"/>
              </a:rPr>
              <a:t>професійної освіти й освіти дорослих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НАПН України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26" name="Picture 2" descr=" "/>
          <p:cNvPicPr/>
          <p:nvPr/>
        </p:nvPicPr>
        <p:blipFill>
          <a:blip r:embed="rId1"/>
          <a:stretch/>
        </p:blipFill>
        <p:spPr>
          <a:xfrm>
            <a:off x="4268880" y="2149560"/>
            <a:ext cx="310356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Объект 2"/>
          <p:cNvSpPr/>
          <p:nvPr/>
        </p:nvSpPr>
        <p:spPr>
          <a:xfrm>
            <a:off x="1114560" y="590400"/>
            <a:ext cx="1036296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13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2060"/>
                </a:solidFill>
                <a:latin typeface="Arial"/>
                <a:ea typeface="Arial"/>
              </a:rPr>
              <a:t>Неля Григорівна Ничкало - особистість непересічна, неповторна. Вона автор багатьох книг і статей, керівник багатьох кандидатських і консультант докторських дисертацій. Учні для Неллі Григорівни - найкращі, найулюбленіші, найпотрібніші люди в житті. Навколо неї завжди панує дух добра, людяності, гуманності. Її шанують колеги за рубежем. Її ідеї запалюють інших. Найпрекрасніша, найгуманніша особистість, вона в усьому вбачає своє призначення на цій землі. Вона може бути прикладом і в сімейному житті. ...вона вміє бути щасливою сама й генерує щастя для інших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4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4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55272"/>
                </a:solidFill>
                <a:latin typeface="Times New Roman"/>
                <a:ea typeface="Times New Roman"/>
              </a:rPr>
              <a:t>А. М. Богуш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4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4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Прямоугольник 6"/>
          <p:cNvSpPr/>
          <p:nvPr/>
        </p:nvSpPr>
        <p:spPr>
          <a:xfrm>
            <a:off x="676440" y="2863800"/>
            <a:ext cx="10801080" cy="27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9110d"/>
                </a:solidFill>
                <a:latin typeface="Times New Roman"/>
                <a:ea typeface="Times New Roman"/>
              </a:rPr>
              <a:t>Основні дати життя і діяльності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939</a:t>
            </a:r>
            <a:r>
              <a:rPr b="0" i="1" lang="uk-UA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ародилася 26 вересня в с. Старогнатівка Волноваського району Донецької області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954 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авчалася у Маріупольському педагогічному училищі Донецької області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958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закінчила Лисичанське педагогічне училище м. Верхнє Луганської області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965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закінчила Львівський державний університет імені І. Франка, філологічний факульт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965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учитель Порудянської і Лісівської шкіл Яворівського району Львівської області, другий секретар Львівського обкому комсомолу Компартії Україн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970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заступник завідувача відділу науки і навчальних закладів Львівського обкому Компартії Україн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972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захистила дисертацію на здобуття наукового ступеня кандидата педагогічних нау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976</a:t>
            </a:r>
            <a:r>
              <a:rPr b="0" lang="uk-UA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ацівник апарату Президії Верховної Ради Української РС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981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завідувачка відділу професійно-технічної освіти Науково-дослідного інституту педагогіки Міністерства народної освіти УРС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1169640" y="1275840"/>
            <a:ext cx="990612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985 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истила дисертацію на здобуття наукового ступеня доктора педагогічних наук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1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987 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воєно вчене звання професора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1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993 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ступник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ора з наукової роботи Інституту педагогіки і психології професійної освіти АПН України; обрана членом-кореспондентом АПН України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1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995 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на дійсним членом АПН України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1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997 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на академіком-секретарем Відділення педагогіки і психології професійно-технічної освіти АПН України, заступник директора з наукової роботи Інституту педагогіки і психології професійної освіти АПН України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1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08 –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воєно звання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ЧЕСНИЙ ДОКТОР» – «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TOR HONORIS CAUSA»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мельницького національного університету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1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08  –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на академіком-секретарем Відділення професійної освіти і освіти дорослих АПН України, перший заступник директора Інституту педагогічної освіти і освіти дорослих АПН України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1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09  –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воєно звання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ЧЕСНИЙ ДОКТОР» – «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TOR HONORIS CAUSA»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іверситету менеджменту освіти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Н України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1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09 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воєно звання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ЧЕСНИЙ ДОКТОР» – «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TOR HONORIS CAUSA»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вівського державного університету безпеки життєдіяльності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09T17:34:52Z</dcterms:created>
  <dc:creator>V</dc:creator>
  <dc:description/>
  <dc:language>en-US</dc:language>
  <cp:lastModifiedBy>PK</cp:lastModifiedBy>
  <dcterms:modified xsi:type="dcterms:W3CDTF">2018-02-26T08:53:04Z</dcterms:modified>
  <cp:revision>34</cp:revision>
  <dc:subject/>
  <dc:title>Нелля Григорівна Ничкало –  провідний вчений у галузі професійної педагогіки</dc:title>
</cp:coreProperties>
</file>