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E6067-129D-41D1-9368-BCF2F1511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1FAC8-CF82-4311-BD8D-F19FFDE1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FD31F-54BD-4C92-AC89-2EE8B6109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AB134-06A8-4E6E-813D-0C7534C84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0A6D9-B324-406A-97F1-FDE4A3FD8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15F29-D04C-433B-9BED-6D26F32D9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DDB7B-04AA-410E-AE71-111FC1EB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A8A98-BE1A-4ECA-B8FA-54EE5FBE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EB733-FE64-4E9E-87BB-A91CB8B7E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7BF93-4C16-4BB6-A44F-450F7C63D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E878-6589-4983-8867-81CA6781B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3EC2-B42E-4709-89CE-1EAA0A7B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7E583-2B74-48E5-B8B7-5BCFA5FDB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A2691-9199-469C-918F-C03E37FA7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7164C-7685-4D31-98D4-8DD808C10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A6B8D-146C-4AA1-9780-BE3E1568F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93AA0-E8DE-49A7-BFB6-D0B23487D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855F3-8EC9-4D41-A58E-D73D7D153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9F837-93A3-4865-A66C-94C117E9E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65923-4D16-4FC9-9EDA-DDB89F323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CBAD9-D421-4E7E-B6E6-340FAB3C4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7DA8A-FFE3-46BA-9E4E-E7387DF1A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8BF0-D288-423A-82A0-E9E920050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DD460-30C8-4BA1-9086-65B5845A3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67C7C-61E8-4BAE-8F56-563017C48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6A043-2AFF-4636-88FC-922EE7DC3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C5819-FE34-40B0-A1D6-EA3D703A3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F5454-0BD1-4EF2-9E5A-CBA26D065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5EAF6-36F0-4254-A05A-D12F612FC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A2209F-5EE6-455D-A2D0-DF1D3EEFE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47A59-8F3A-4350-8C3B-413E794FD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FAE97-27A1-4683-8F93-4FD46B9B0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C1448-8444-44C5-A638-D4BFE1624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52AD-3788-4AB6-99C9-587DBF50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40229-4AC0-4E04-B391-FA3E6C046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2BDB4-905E-4EF0-B12D-8E22B7A94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3608A-C96F-48E8-A6E9-8212B56EA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AB775-3A49-4174-8C1C-53AC4386F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2BDC5-5DD3-47A8-A999-7AB18F979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BC992-C5B9-4697-8E3D-989E3DF56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604F7-FB00-4730-9E8D-20912F03F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6981EA-7CC1-4403-A1D3-EEC3B56EFB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FD79C-7F37-46C4-A370-725E86A41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5F9AF-DE69-45C8-9A64-B4E88CE5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BB24F-EA64-447E-A36C-860316F64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4D42-47CB-4E14-A830-5E7258C4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1FD2-776F-4C5F-939D-9B6ED035E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C975-AC1A-44F8-9A65-07040C4B3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CAFE-A806-4FEF-87B0-69FD95B2C16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923D-F851-417D-9C13-3D9D9D729C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E5C8-EDEE-4E2F-944C-495EB1D6D5D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0397-CBE7-4FBA-97F6-A3E7DA5F4B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57200" y="2322360"/>
            <a:ext cx="8308800" cy="3164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990720"/>
            <a:ext cx="8229600" cy="3124080"/>
          </a:xfrm>
          <a:prstGeom prst="rect">
            <a:avLst/>
          </a:prstGeom>
          <a:noFill/>
          <a:ln w="0">
            <a:noFill/>
          </a:ln>
        </p:spPr>
        <p:txBody>
          <a:bodyPr lIns="90000" rIns="90000" tIns="46800" bIns="46800" anchor="t">
            <a:normAutofit fontScale="78000"/>
          </a:bodyPr>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 сумлінну працю та науково-дослідну діяльність Є. Ф. Соботович була нагороджена Грамотами Міністерства освіти України, Академії педагогічних наук України, нагрудним значком „Відмінник народної освіти" (1984), медаллю ім. А. С. Макаренка (1987).</a:t>
            </a: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uk-UA" sz="2000" spc="-1" strike="noStrike">
                <a:solidFill>
                  <a:srgbClr val="000000"/>
                </a:solidFill>
                <a:latin typeface="Times New Roman"/>
                <a:ea typeface="Times New Roman"/>
              </a:rPr>
              <a:t>Література:</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ібцун, Ю. В. Дві паралелі - життя і творчість / Юлія Рібцун // Євгенія Федорівна Соботович : до 70-річчя від дня народж. : каталог вист. / АПН України, ДНПБ України ім. В. О. Сухомлинського. - Київ, 2005. - С. 9-14. - (Ювіляри АПН України ; вип. 24).</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Євгенія Федорівна Соботович :[некролог] // Дефектологія. - 2007. - № 1. - С. 4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85800" y="3580920"/>
            <a:ext cx="8229600" cy="2971800"/>
          </a:xfrm>
          <a:prstGeom prst="rect">
            <a:avLst/>
          </a:prstGeom>
          <a:noFill/>
          <a:ln w="0">
            <a:noFill/>
          </a:ln>
        </p:spPr>
        <p:txBody>
          <a:bodyPr lIns="90000" rIns="90000" tIns="46800" bIns="46800" anchor="t">
            <a:norm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30.03.1935 - 24.01.2007)</a:t>
            </a:r>
            <a:endParaRPr b="0" lang="en-US" sz="1500" spc="-1" strike="noStrike">
              <a:solidFill>
                <a:srgbClr val="000000"/>
              </a:solidFill>
              <a:latin typeface="Constantia"/>
            </a:endParaRPr>
          </a:p>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387026"/>
                </a:solidFill>
                <a:latin typeface="Times New Roman"/>
                <a:ea typeface="Times New Roman"/>
              </a:rPr>
              <a:t>(до 80-річчя від дня народження Є. Ф. Соботович, видатного українського педагога, дефектолога, доктора педагогічних наук, професора, члена-кореспондента АПН України, фахівця у галузі логопедії, лінгвістики, психолінгвістики, дитячої психології та патопсихології, професора і завідувача кафедри сурдопедагогіки й логопедії Київського педагогічного інституту ім. О. М. Горького, завідувача лабораторії логопедії Інституту спеціальної педагогіки АПН України, автора наукових праць „Формування правильного мовлення у дітей з моторною алалією", „Порушення мовленнєвого розвитку у дітей та шляхи їх корекції ", „Психолінгвістична структура мовленнєвої діяльності та механізми її формування", „Методика виявлення мовленнєвих порушень у дітей")</a:t>
            </a:r>
            <a:endParaRPr b="0" lang="en-US" sz="1500" spc="-1" strike="noStrike">
              <a:solidFill>
                <a:srgbClr val="000000"/>
              </a:solidFill>
              <a:latin typeface="Constantia"/>
            </a:endParaRPr>
          </a:p>
          <a:p>
            <a:pPr>
              <a:lnSpc>
                <a:spcPct val="10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97" name="Picture 2" descr=" "/>
          <p:cNvPicPr/>
          <p:nvPr/>
        </p:nvPicPr>
        <p:blipFill>
          <a:blip r:embed="rId1"/>
          <a:stretch/>
        </p:blipFill>
        <p:spPr>
          <a:xfrm>
            <a:off x="3200400" y="7621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83763"/>
                </a:solidFill>
                <a:latin typeface="Arial"/>
                <a:ea typeface="Arial"/>
              </a:rPr>
              <a:t>Життя та діяльність Є. Ф. Соботович</a:t>
            </a:r>
            <a:endParaRPr b="0" lang="en-US" sz="2800" spc="-1" strike="noStrike">
              <a:solidFill>
                <a:srgbClr val="04617b"/>
              </a:solidFill>
              <a:latin typeface="Calibri"/>
            </a:endParaRPr>
          </a:p>
        </p:txBody>
      </p:sp>
      <p:sp>
        <p:nvSpPr>
          <p:cNvPr id="199" name=""/>
          <p:cNvSpPr txBox="1"/>
          <p:nvPr/>
        </p:nvSpPr>
        <p:spPr>
          <a:xfrm>
            <a:off x="457200" y="15235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Times New Roman"/>
              </a:rPr>
              <a:t>У</a:t>
            </a:r>
            <a:r>
              <a:rPr b="0"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2015 р. педагогічна спільнота відмічає ювілей Євгенії Федорівни Соботович, ім'я якої знають і з повагою вимовляють логопеди України та ближнього зарубіжжя.</a:t>
            </a:r>
            <a:endParaRPr b="0" lang="en-US" sz="18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ародилася Євгенія Федорівна Соботович 30 березня 1935 р. у Ленінграді (нині - Санкт-Петербург, Росія). Після закінчення школи вона дуже наполегливо оволоділа знаннями і через декілька років на базі Ленінградського державного педагогічного інституту ім. О. І. Герцена отримала дві вищі освіти і набула кваліфікації „Вчитель російської мови та літератури" та „Вчитель шкіл глухих та слабочуючих".</a:t>
            </a: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1962 р. Євгенія Федорівна працювала логопедом Ленінградської дитячої поліклініки № 14, а з 1967 р. - асистентом кафедри психоневрології та логопедії при Ленінградському державному педагогічному інституті ім. О. І. Герцена.</a:t>
            </a:r>
            <a:endParaRPr b="0" lang="en-US" sz="1800" spc="-1" strike="noStrike">
              <a:solidFill>
                <a:srgbClr val="000000"/>
              </a:solidFill>
              <a:latin typeface="Constant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49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їхавши до Києва, Є. Ф. Соботович почала працювати в Київському державному педагогічному інституті iм. O. M. Горького (нині - НПУ ім. М. П. Драгоманова). У цьому вищому навчальному закладі Євгенія Федорівна пройшла шлях від асистента до завідувача кафедри сурдопедагогіки і логопедії, захистила дисертації : у 1971 р. - кандидатську дисертацію „Прояви недорікуватості в дітей дошкільного віку та шляхи її усунення", а у 1984 р. - докторську дисертацію „Психолого-педагогічні засади корекції порушень формування граматичного ладу мовлення в дітей". З 1993 р. Євгенія Федорівна очолила створену на базі дефектологічного факультету інституту спеціалізовану вчену раду із захисту кандидатських дисертацій за спеціальностями: 13.00.03 - спеціальна педагогіка, 19.00.08 - спеціальна психологія.</a:t>
            </a: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3412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66320"/>
            <a:ext cx="8229600" cy="5410440"/>
          </a:xfrm>
          <a:prstGeom prst="rect">
            <a:avLst/>
          </a:prstGeom>
          <a:noFill/>
          <a:ln w="0">
            <a:noFill/>
          </a:ln>
        </p:spPr>
        <p:txBody>
          <a:bodyPr lIns="90000" rIns="90000" tIns="46800" bIns="46800" anchor="t">
            <a:normAutofit/>
          </a:bodyPr>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наступному, 1994 р., Євгенія Федорівна була переведена на посаду головного наукового співробітника лабораторії тифлопедагогіки та логопедії Інституту дефектології АПН України (нині - Інститут спеціальної педагогіки Національної академії педагогічних наук України). З травня 1996 р. вона завідувач лабораторії корекційного розвитку дітей дошкільного віку, з березня 2003 р. - завідувач лабораторії логопедії Інституту спеціальної педагогіки АПН України, науковий керівник комплексних тем НДР лабораторії („Психолінгвістичні основи підготовки аномальних дітей до шкільного навчання", 1994-1999 рр.; „Науково-педагогічні засади удосконалення змісту освіти дітей дошкільного віку з вадами мовленнєвого розвитку", 2000-2004 рр.; „Науково-методичне забезпечення реалізації змісту початкової загальної освіти", 2005-2008 рр.).</a:t>
            </a:r>
            <a:endParaRPr b="0" lang="en-US" sz="2200" spc="-1" strike="noStrike">
              <a:solidFill>
                <a:srgbClr val="000000"/>
              </a:solidFill>
              <a:latin typeface="Constantia"/>
            </a:endParaRPr>
          </a:p>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indent="341280">
              <a:lnSpc>
                <a:spcPct val="9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066680"/>
            <a:ext cx="8229600" cy="5105520"/>
          </a:xfrm>
          <a:prstGeom prst="rect">
            <a:avLst/>
          </a:prstGeom>
          <a:noFill/>
          <a:ln w="0">
            <a:noFill/>
          </a:ln>
        </p:spPr>
        <p:txBody>
          <a:bodyPr lIns="90000" rIns="90000" tIns="46800" bIns="46800" anchor="t">
            <a:normAutofit/>
          </a:bodyPr>
          <a:p>
            <a:pPr indent="341280" algn="just">
              <a:lnSpc>
                <a:spcPct val="12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ажливим внеском у розвиток дефектологічної науки, зокрема логопедії, та теоретичним підґрунтям наукових розробок лабораторії став створений Є. Ф. Соботович психолінгвістичний підхід до аналізу, корекції та попередження мовленнєвих порушень, розроблена психолінгвістична модель мовленнєвої діяльності та психологічних механізмів, що лежать в основі її формування. Ця модель розкриває раніше не використовувані в логопедичній науці психологічні механізми розвитку мовлення дитини (у фонологічній, лексичній, граматичній ланках) в умовах нормального та порушеного онтогенезу, що дало змогу не лише визначити структуру мовленнєвих порушень, але і по-новому підійти до вирішення проблем пошуку ефективних і раціональних шляхів корекції та запобігання вад мовленнєвого розвитку у дітей.</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914400"/>
            <a:ext cx="8229600" cy="541008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створеній моделі виділено лінгвістичний та комунікативний компоненти мовленнєвої діяльності, тобто мовлення в ній розглядається як двосторонній процес, спрямований як на засвоєння, так і на використання мови в актах комунікації (говоріння, сприймання мовлення, читання, письмо), а також визначено типи мовленнєвої компетенції, їх зміст і психологічну структуру.</a:t>
            </a:r>
            <a:endParaRPr b="0" lang="en-US" sz="22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Є. Ф. Соботович розроблено нормативні показники та критерії оцінювання мовленнєвого розвитку дошкільників, які допомагають об'єктивно аналізувати стан мовлення дитини та виявляти внутрішні психологічні причини і механізми його порушення, що є принципово новим у логопедії.</a:t>
            </a:r>
            <a:endParaRPr b="0" lang="en-US" sz="22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indent="341280">
              <a:lnSpc>
                <a:spcPct val="10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066680"/>
            <a:ext cx="8229600" cy="2027520"/>
          </a:xfrm>
          <a:prstGeom prst="rect">
            <a:avLst/>
          </a:prstGeom>
          <a:noFill/>
          <a:ln w="0">
            <a:noFill/>
          </a:ln>
        </p:spPr>
        <p:txBody>
          <a:bodyPr lIns="90000" rIns="90000" tIns="46800" bIns="46800" anchor="t">
            <a:normAutofit fontScale="66000"/>
          </a:bodyPr>
          <a:p>
            <a:pPr indent="22500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Упродовж життя Євгенія Федорівна ділилася своїми глибокими знаннями та багаторічним досвідом роботи зі студентами, науковцями-початківцями та колегами. Нею створено ґрунтовну науково-педагогічну школу, яка досліджує пріоритетні напрями сучасної логопедії. Під її керівництвом захищено 6 кандидатських дисертацій (Л. Є. Андрусишина, Л. І. Бартєнєва, Е. А. Данилавічютє, Ю. В. Рібцун, В. В. Тищенко, Л. І. Трофименко) з проблем діагностики та корекції мовленнєвих порушень у дітей дошкільного та молодшого шкільного вік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360"/>
            <a:ext cx="8229600" cy="3855960"/>
          </a:xfrm>
          <a:prstGeom prst="rect">
            <a:avLst/>
          </a:prstGeom>
          <a:noFill/>
          <a:ln w="0">
            <a:noFill/>
          </a:ln>
        </p:spPr>
        <p:txBody>
          <a:bodyPr lIns="90000" rIns="90000" tIns="46800" bIns="46800" anchor="t">
            <a:normAutofit fontScale="86000"/>
          </a:bodyPr>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зультатом її науково-педагогічної діяльності стали понад 150 наукових праць, серед яких 3 монографії, 6 науково-методичних посібників, програми з дисциплін логопедичного циклу для вищих навчальних закладів, „Концепція загальномовленнєвої підготовки аномальних дітей до навчання в школі" та „Концепції стандарту спеціальної освіти дітей дошкільного віку з порушеннями мовленнєвого розвитку", нормативні показники та критерії оцінювання мовленнєвого розвитку дітей дошкільного віку. Наукові праці Є. Ф. Соботович характеризуються не лише інноваційним підходом до проведення науково-дослідної роботи, а й відповідають сучасним вимогам спеціальної освіти дітей з вадами мовленнєвого розвитку.</a:t>
            </a:r>
            <a:endParaRPr b="0" lang="en-US" sz="16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Останні роки свого плідного життя Євгенія Федорівна працювала головним науковим співробітником лабораторії логопедії Інституту спеціальної педагогіки АПН України, була член-кореспондентом АПН України, членом спеціалізованої вченої ради із захисту кандидатських і докторських дисертацій в Інституті спеціальної педагогіки АПН України, членом редакційної колегії журналу „Дефектологія".</a:t>
            </a:r>
            <a:endParaRPr b="0" lang="en-US" sz="1600" spc="-1" strike="noStrike">
              <a:solidFill>
                <a:srgbClr val="000000"/>
              </a:solidFill>
              <a:latin typeface="Constantia"/>
            </a:endParaRPr>
          </a:p>
          <a:p>
            <a:pPr indent="29484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PK</cp:lastModifiedBy>
  <dcterms:modified xsi:type="dcterms:W3CDTF">2018-02-21T10:04:30Z</dcterms:modified>
  <cp:revision>87</cp:revision>
  <dc:subject/>
  <dc:title>Слайд 1</dc:title>
</cp:coreProperties>
</file>